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A15B-869E-450B-828C-5C94B191D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1D3A-8B08-4341-BD8D-3A0EBA338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78E3-C12E-4249-A160-CBF2E7EC5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465B-6885-41C6-8343-D3D559406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FCA7-9EA4-4F1E-92B1-134131ACC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2808-F338-4074-ACE7-B7DF30691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A99B-D339-43D4-83A5-5D37F5111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B710-8666-46C8-847D-F83D79C57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1953-AD30-4EAE-8548-0B4A14AC7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C4FE-A82E-47B6-BFFA-4B33BB874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32D5-DAA7-460C-AE5E-358EDFC02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E707-3C6D-4109-B87B-7CE67C4F4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395-BAB3-4A8A-84E3-9C474B8C48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E8F3-85E2-499C-A21B-10A1CDDCE9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erspectives 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alization Strategies and Justifica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ramework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, 2 and 3.  No more than 4 people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EFCF-7D13-4034-9D22-CCC1D358D8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3764-184A-42DF-BD1D-8561149D88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CA92-66E4-4165-B923-88B5182ED3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1DA1-A307-492E-AEB2-1543B33810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which have been numbered for iden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BLM 3.3,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appropria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8E9-FAE4-4660-AAE5-0B930F58E6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D7D0-4173-492B-B1F1-6CC24AA733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Robin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with marker on the half piece of chart paper (be sure to put the student sample number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8035-F1D5-4E6D-AD7F-048530E155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A1B-0BE7-461F-8F2B-BFA89C7566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3 by taking one person from each Expert Group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2C77-54B0-4861-A2B5-E20D9BD863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D2DD-FA2C-4F4B-AB15-05C48B1EC8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3D5A-8D0F-435F-9FC9-67B7673CBD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EB78-EB6B-425E-8C0B-5D20662FCD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3E2E-4C64-4298-91F3-C1D6681E12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FF6A-02FC-4F50-AF71-EA3BCEF06C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2373-86E3-4416-A032-1E91FCB181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B873-583A-44ED-8C42-6514116849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1188-350A-4E10-9975-0CFD53295F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A31D-D829-413E-8E48-D02C47FD47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4500-2597-4905-8E4F-713EDDD604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C46B-2BB8-470A-A688-1CD69D8438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6008-C5FB-4961-9760-B28AAE7B1D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B7B1-5703-460A-90F0-B7D211CBEE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026A-A9D8-4A59-BA4D-598C9D4C05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9F72-7B6A-4D40-AB8D-0318E24914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5917-7093-488C-B282-EEDAE477D5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681B-5B60-417E-AF99-B11507209A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C6B3-D8B9-40A3-AC9E-CBA1E59579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4D4A-F82A-40A5-BE36-161C195692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BB68-FD24-4100-A317-220BF30AB6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364C-1CE7-43B5-B534-AAC34A2649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DBFB-F05C-4DF4-B9A8-6A6F7F15DD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F485-F670-49D7-A693-BCDC02AED7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8547-0AF8-4091-914C-34A83E6988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7A10-07A2-45D0-B6CD-39503ADBB7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84E4-1D13-473A-A609-C806024E4E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900-2382-41EE-9F67-3394773610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7-30T19:15:04Z</dcterms:modified>
  <cp:revision>28</cp:revision>
  <dc:subject/>
  <dc:title>&lt;Title&gt;</dc:title>
</cp:coreProperties>
</file>